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C72-E24A-4C1C-A64C-6084BC40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CF1-31B0-4D98-8A2A-731B61B2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F9A-924C-412E-A63E-D218A528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607-4F27-4462-A2FF-38D83073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E20-4DAE-4F5B-9754-7FDAC21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8DE-8C0D-4146-8E1B-87B6B7F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767-0E6B-41C7-8B12-EA732FA6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BBD-6812-429D-BA22-ADFDE7A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6FA-25FF-4F01-8FC7-452C8FE6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18C-1180-4DC3-92BD-094120E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321-0F92-4D37-A1B9-4383DBB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CFA-30E0-4EC9-AEBB-962E9C7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13C-E70A-483F-9F15-EF9CF6DA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9.xml"/><Relationship Id="rId4" Type="http://schemas.openxmlformats.org/officeDocument/2006/relationships/slide" Target="slide35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37.xml"/><Relationship Id="rId9" Type="http://schemas.openxmlformats.org/officeDocument/2006/relationships/slide" Target="slide7.xml"/><Relationship Id="rId10" Type="http://schemas.openxmlformats.org/officeDocument/2006/relationships/slide" Target="slide15.xml"/><Relationship Id="rId11" Type="http://schemas.openxmlformats.org/officeDocument/2006/relationships/slide" Target="slide23.xml"/><Relationship Id="rId12" Type="http://schemas.openxmlformats.org/officeDocument/2006/relationships/slide" Target="slide39.xml"/><Relationship Id="rId13" Type="http://schemas.openxmlformats.org/officeDocument/2006/relationships/slide" Target="slide9.xml"/><Relationship Id="rId14" Type="http://schemas.openxmlformats.org/officeDocument/2006/relationships/slide" Target="slide17.xml"/><Relationship Id="rId15" Type="http://schemas.openxmlformats.org/officeDocument/2006/relationships/slide" Target="slide25.xml"/><Relationship Id="rId16" Type="http://schemas.openxmlformats.org/officeDocument/2006/relationships/slide" Target="slide41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an you remember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Charles Baker Harr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 fire burns down this character’s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Miss Maudi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r. Nathan Radley gives this excuse for filling in the knotho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the tree was dy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em must read to Mrs. Dubose because he did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ruined her flowers with Scout’s bat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en Atticus shoots a mad dog, we discover his nickname is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One Shot Finch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is found guilty of rap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380880"/>
          <a:ext cx="8610120" cy="6019560"/>
        </p:xfrm>
        <a:graphic>
          <a:graphicData uri="http://schemas.openxmlformats.org/drawingml/2006/table">
            <a:tbl>
              <a:tblPr/>
              <a:tblGrid>
                <a:gridCol w="1722240"/>
                <a:gridCol w="1722600"/>
                <a:gridCol w="1720440"/>
                <a:gridCol w="1722600"/>
                <a:gridCol w="1722240"/>
              </a:tblGrid>
              <a:tr h="124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Tom Robinso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Atticus’ cross examination of Bob Ewell, he points out what characteristic of Bob that is important regarding Mayella’s bruis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he is left hande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are 3 things Mayella says happened the day of the rap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y were outs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was busting a chiffaro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e went to get him a nick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jumped on 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aped 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e rang her around her ne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ial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stands up during the trial to tell everyone what a great worker Tom Robinson 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Link Dea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se kept everything separate but not equal, and they also allowed segreg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Jim Crow Law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Kill a Mockingbird can be seen as similar to this historical event that took place on a trai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character is the narrato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the Scottsboro Boys incide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m and Scout go to church with Calpurnia and discover her “having command of two different languages.” What is the correct terminology for thi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dialec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se caused mass lynchings and were mostly initiated by whit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are race riot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rs. Dubose was addicted to thi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morphin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man walks around acting like he’s drunk and has mixed childr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Mr. Raymond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family refuses to take anything from anyone unless they know they can pay them bac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Scou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are the Cunningham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DOUBLE OR NOTH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man was 1/8 black and arrested for sitting in a designated white are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Homer A. Pless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person attacked Jem and Scout on their way home from the Halloween part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Bob Ewel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is Maycomb’s sherif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o is Heck 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8153280" y="5638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7301" y="13203"/>
                </a:moveTo>
                <a:lnTo>
                  <a:pt x="17806" y="6196"/>
                </a:lnTo>
                <a:lnTo>
                  <a:pt x="17806" y="20209"/>
                </a:lnTo>
                <a:close/>
              </a:path>
              <a:path fill="darken" w="21600" h="26405">
                <a:moveTo>
                  <a:pt x="3794" y="6196"/>
                </a:moveTo>
                <a:lnTo>
                  <a:pt x="5456" y="6196"/>
                </a:lnTo>
                <a:lnTo>
                  <a:pt x="5456" y="20209"/>
                </a:lnTo>
                <a:lnTo>
                  <a:pt x="3794" y="202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 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s is Dill’s real na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6:13:23Z</dcterms:created>
  <dc:creator>teacher</dc:creator>
  <dc:description/>
  <dc:language>en-US</dc:language>
  <cp:lastModifiedBy>teacher</cp:lastModifiedBy>
  <dcterms:modified xsi:type="dcterms:W3CDTF">2012-12-13T16:02:40Z</dcterms:modified>
  <cp:revision>18</cp:revision>
  <dc:subject/>
  <dc:title>To Kill a Mockingbird</dc:title>
</cp:coreProperties>
</file>